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2B7-E9BF-4803-A47A-C7228900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ED0-C0CE-4ADE-91D0-9BCC7C22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CC5C-4FFE-4E2A-8A6A-868CB110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FAA-54A7-4E18-A2B8-12C6D1BE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33E-E0BE-4165-8811-B5185E9D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384-0E17-4812-AEEB-DD1CAFA9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FFF-2CFF-4CEE-9D0C-CB1B23FE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614-7263-4E54-B145-B8591250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DF3-620C-4908-9286-A375916E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DD7-7A7F-4007-8E1E-3D76D8B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69C-6822-46EB-AA82-37896170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9DF-58E7-4855-AA22-5559C35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BA58-11E5-42B6-A760-4EA9D9528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T Prolon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8" descr="QTP small"/>
          <p:cNvPicPr/>
          <p:nvPr/>
        </p:nvPicPr>
        <p:blipFill>
          <a:blip r:embed="rId1"/>
          <a:stretch/>
        </p:blipFill>
        <p:spPr>
          <a:xfrm>
            <a:off x="1187280" y="609480"/>
            <a:ext cx="6429600" cy="2133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T of 440 ms, QTc of 498 (double arrow).  Note the Q-T Interval is measured from the beginning of the QRS complex to the termination point of the T-wa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9"/>
          <p:cNvSpPr/>
          <p:nvPr/>
        </p:nvSpPr>
        <p:spPr>
          <a:xfrm>
            <a:off x="3809880" y="23623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2879640" y="4684680"/>
            <a:ext cx="18432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4861080" y="6208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3:04:10Z</dcterms:created>
  <dc:creator> </dc:creator>
  <dc:description/>
  <dc:language>en-US</dc:language>
  <cp:lastModifiedBy>thurmarj</cp:lastModifiedBy>
  <dcterms:modified xsi:type="dcterms:W3CDTF">2008-12-14T22:40:44Z</dcterms:modified>
  <cp:revision>8</cp:revision>
  <dc:subject/>
  <dc:title>Slide 1</dc:title>
</cp:coreProperties>
</file>